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9984-5BDB-4878-BB01-6F33086684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ad with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01FA-BE05-412F-9426-7CC8F28BD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eet is available for children to record thei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courtesy of brgfx / Freepi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32A5-9AD1-4F4E-BAC2-32F8A51B1C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eet is available for children to record thei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courtesy of brgfx / Freepi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FF3-510A-466D-A7E3-32449E29C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x can be changed to the relevant year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rite as many verses as time all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per version of this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per version of this is available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B291-9F33-46AA-96E0-D7042DB2C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301579-0498-4F36-8F6A-01AB4B3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1324A1-232C-44E9-8E26-93164348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331E77-E3A7-4617-8402-458B38A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3D922-712E-46F9-ADD1-A7C4E413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70A3E2-79B5-4BF1-AC87-143F940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B9E53-D974-4DC5-8FB3-A13CABC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21DC5-1924-40AA-9415-E4B01B8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E56CE-F9FF-4CC3-8408-007261DA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67A6E-C938-4345-BC06-53EBCDFB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38D4E-474F-42EA-A478-5B36C58B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10424-A3E1-405F-9FE1-2C9E80DB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6A946-0450-4674-A995-E5582A1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9D927-2606-407C-B202-68421B6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EE5F2-8B33-4A26-BA2D-55C8DAB8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7C0EE-174B-484A-BF73-960F00D7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1F263-0196-4A52-AB38-AE1F886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D5E17-50ED-4977-87F7-E286F39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D14D5-EC4C-47E9-A0C9-6BD4CB8A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229C4-7A7C-4455-9935-AA38D6BD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55455-6C31-4DE5-9BD6-5631DD37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7DB13-604D-4092-A35B-F3DE3386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AFD79-B567-49C0-B248-A313F899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72F1A-D04B-4119-BDD6-C05332AA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10D6D-233F-45AC-A225-48760AF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4BF4D-3870-4BD8-91EF-173A5E4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671A1-0EFF-46DD-AD2A-BB20934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EF7EB-8BB5-4076-BF1A-EC8FA6E9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9F394-2A0C-49AB-96E1-F333A27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6AA6E-ABC0-4908-A2D7-20B329CB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9D89F-59FE-4E23-9B75-A87CBC8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D807-F325-413A-9566-AA34626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5F8D3-3352-4568-BBEA-F05BD547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712F1-A940-4A02-A327-3F47678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7BDC6C-3816-4A4B-838D-DB82D973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38893A-DFFA-4587-BAFC-BE1C76FF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690667-F4D5-41E9-A088-6E3F4B3D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8780DD-DCDA-4680-9DAB-ED9731DE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63AF2F-324D-48B7-A01D-5B87179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517741-DD11-46DD-91E9-3322C7D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8787A8-066C-4751-AC2F-D6504DC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0CEFB9-37C7-4910-918D-F290859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CF754A-54BC-45A6-B22C-8857114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EACFA7-F332-465C-947B-09CB217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970A05-FDB9-4693-839F-7F6CBA82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87DBE1-BCE3-4084-A2E1-D3461DAC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E20C8-E8C1-4913-ACAC-D2636856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28111-2609-49A9-ADAD-605BF0C3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32476-A942-40AE-BA46-3C307F49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20A78-A4BC-4E9C-8FA8-F1A36A2E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CCBFD-45A8-4553-8B4F-95A5949B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55426-EF17-4133-A746-1557F7E0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5A263-2E57-429E-A6E2-B4F45A8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3BC39-C285-4718-A7D6-DC09018A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7F203-F363-41F4-AA1E-A5A9778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18286-5FB9-49FB-88D8-A670FCC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F8739-EE6C-4332-841E-87D35A16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642F8-0318-4AFA-BC9B-B3AE08BF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7F6C24-AAB8-460D-8EA7-5A81C0EC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598967-AEF6-4FC4-A892-1336F11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FA9A32-04FB-4BB2-9B71-4C8EFEC4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25457-3963-49E8-BA5A-C8DD378A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6F16E-C776-4CC8-8773-1C6B561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8F0430-A8DA-402D-9003-B0BAA2E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9FCFF-EE7E-4648-93B9-D88BD85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D5653-AADD-44EC-A3C6-FFB9C2AB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04C1AC-4127-4837-A6B8-E7508FC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95B09-0258-45CE-AC33-1943F767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4847E-7559-4D05-91B4-2BE69816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95B8B-C4BD-4E9F-9826-3557E27E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A9F22-4041-47C5-8DC4-C0C05676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BA7BF-4FB7-4953-AE82-7D9B8DE8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02BE1-F8A5-4778-A9D0-D89575E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D2820-B2A1-4E5F-AF9F-FC2FFFEF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04D26-802B-4597-B2B9-AFCB065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C32965-3C28-43A0-AB80-E05FAC8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AFBBDD-D618-4544-93C5-EEB53A4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0F427-9C94-47AC-A568-638338C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EBD983-DA03-43B4-821A-6D62D07E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F7A5EF-76EB-4FA6-8D2E-5086FEEC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09EF5-7748-468F-8EAE-71268C5E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C79996-0B47-427A-B6FE-624BDE6C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32C2F5-7889-4B05-AB16-DDE57C30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7EF598-9B3C-4983-97FE-F9138761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730E6B-CC70-4084-B944-A4760267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C4E66-4384-452F-8BD5-B28A7462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DD2983-D72D-47C9-8386-D1C97D3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8D629-EA6E-4703-9851-93E78E7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823C19-1FED-4967-807E-FB53DC0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FC2BC8-D1AE-4C95-B054-B00082A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90CC0F-E0B2-40B9-B5C8-74615DD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32BD76-659D-4E48-A337-F98CCA3E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7F727-FC55-4EE2-818B-85FE2FCE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4E4B83-2432-49D7-A586-8D9A2D22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46DF48-380D-4F7A-B418-73EE820A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7AFE66-D7F5-4064-AEE4-80A76D5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B40392-7D88-4557-8B57-A8F80DE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4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5BAE-4DE5-4651-A742-382C4645EB16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2B3-1F0C-421F-A179-EE5DAFF81074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0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E4B-9EF5-4075-9DBF-5C0ED5E106D0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7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B1FE-FACC-417A-8ED8-E15A989A5E98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0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732-0641-486F-B7FE-BA769774353E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5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F295-CBA4-4109-99C8-F13FDFB58298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8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946-7CC6-49B2-AA1A-E1BD04F82EAC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7"/>
          <p:cNvSpPr/>
          <p:nvPr/>
        </p:nvSpPr>
        <p:spPr>
          <a:xfrm>
            <a:off x="6948360" y="6539040"/>
            <a:ext cx="182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457200" y="6559560"/>
            <a:ext cx="1579680" cy="285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1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3952-9F12-45EB-B6F3-13B5C4EF94AD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oking forward, looking 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oem for Transition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ing forward to next ye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new class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new teacher - Miss Sp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ing back to the past ye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old teache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r Taylor, retires with a te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ing forward to year six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residential 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’ll get up to lots of trick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alk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your memories of this school yea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6875640" y="3851280"/>
            <a:ext cx="1177920" cy="1976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"/>
          <p:cNvPicPr/>
          <p:nvPr/>
        </p:nvPicPr>
        <p:blipFill>
          <a:blip r:embed="rId2"/>
          <a:stretch/>
        </p:blipFill>
        <p:spPr>
          <a:xfrm>
            <a:off x="900000" y="3467160"/>
            <a:ext cx="254484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alk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you looking forward to about the next school yea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6875640" y="3851280"/>
            <a:ext cx="1177920" cy="1976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900000" y="3467160"/>
            <a:ext cx="254484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t’s 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ing forward to next ye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ing back to the past ye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ing forward to year six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36600" y="907920"/>
            <a:ext cx="4870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 pillar</cp:lastModifiedBy>
  <dcterms:modified xsi:type="dcterms:W3CDTF">2025-05-23T09:46:11Z</dcterms:modified>
  <cp:revision>17</cp:revision>
  <dc:subject/>
  <dc:title>Slide 1</dc:title>
</cp:coreProperties>
</file>